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5.jpeg" ContentType="image/jpeg"/>
  <Override PartName="/ppt/media/image3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56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CA72-554D-4F97-9029-1880F7C62EC7}" type="slidenum"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is vestibulum is elaborately painted.  One would pass through this narrow hallway from the street into the at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1F2-57E2-4AE9-987C-BD12E269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8E45-3FBF-4352-BE4E-6E16E513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454-0146-4127-86AF-2DB3F73B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4FE-D85D-4D6E-BC8D-9DCC4C67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8DB-7212-4CDE-8848-57EDB84A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A73F-39C1-475D-BB96-F10113EA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2345-654A-446A-B85D-5CE7F598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F302-937F-4782-81F7-C09D8921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F8BC-7FC0-4137-816F-B9B85A91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401-691A-49EE-A692-DDCB4C80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D23-91CE-49DE-97AD-087C9846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0A9-12D6-43D3-A312-8F4BA815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EC67-2544-435E-ABB6-51E0663D2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1.jpe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5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762120"/>
            <a:ext cx="7619760" cy="4115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atura MT Script Capitals"/>
              </a:rPr>
              <a:t>Domus Romanae et Insula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5334120"/>
            <a:ext cx="563868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tura MT Script Capitals"/>
              </a:rPr>
              <a:t>By:  Magistra Ashcr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335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trium%20w%20buckled%20floor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743960" cy="5715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ff"/>
            </a:gs>
            <a:gs pos="100000">
              <a:srgbClr val="4242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trium%20with%20tablinum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324480" cy="6180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1b"/>
            </a:gs>
            <a:gs pos="50000">
              <a:srgbClr val="b0003b"/>
            </a:gs>
            <a:gs pos="100000">
              <a:srgbClr val="51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trium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324840" cy="62481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trium%20w%20tablinum%20wooden%20shutters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7925040" cy="61084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mpluvium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534160" cy="5689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6019920"/>
            <a:ext cx="8839440" cy="825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Compluv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ave%20canem%20mosaic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6053040" cy="6248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400800" y="304920"/>
            <a:ext cx="2590920" cy="1556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AVE CAN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2286000"/>
            <a:ext cx="2438280" cy="5031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tura MT Script Capitals"/>
              </a:rPr>
              <a:t>Pompeian Mosaic found outside the entrance to a house at Pompe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ubiculum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6477120" cy="4899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066680" y="5486400"/>
            <a:ext cx="7543800" cy="9169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tura MT Script Capitals"/>
              </a:rPr>
              <a:t>Cubiculum with Lect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81680" y="1143000"/>
            <a:ext cx="2210040" cy="17398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tura MT Script Capitals"/>
              </a:rPr>
              <a:t>The Roman Bedro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80880" y="4495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lararium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4530600" cy="5791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257800" y="609480"/>
            <a:ext cx="335268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tura MT Script Capitals"/>
              </a:rPr>
              <a:t>Larariu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2590920"/>
            <a:ext cx="3276360" cy="3018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Shrine for the Household G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enates%20and%20lares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5943600" cy="5867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400800" y="22860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RomanLares and Pen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3354480"/>
            <a:ext cx="2438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ura MT Script Capitals"/>
              </a:rPr>
              <a:t>Hearth and Cupboard gods worshipped by the earliest Ro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152280"/>
            <a:ext cx="8763120" cy="6494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TABLINUM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6000" spc="-1" strike="noStrike">
                <a:solidFill>
                  <a:srgbClr val="ffcc99"/>
                </a:solidFill>
                <a:latin typeface="Matura MT Script Capitals"/>
              </a:rPr>
              <a:t>The Master’s Study          The Wax Tablets (Tabulae) containing the family records and the Household Safe (Arca) were kept her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constructed%20model%20domus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848720" cy="495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53341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Matura MT Script Capitals"/>
              </a:rPr>
              <a:t>Model of a Roman Dom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772480" y="6486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house%20of%20the%20faun%20tablinum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8013600" cy="5291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920" y="5791320"/>
            <a:ext cx="8534160" cy="1556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House of the Faun Tablin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house%20of%20faun%20mosaic%20floor%20tablinum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7251840" cy="478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4920" y="5410080"/>
            <a:ext cx="8534160" cy="825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Detail of the Mosaic Flo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wax%20tablets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7788240" cy="5195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5791320"/>
            <a:ext cx="8534160" cy="764280"/>
          </a:xfrm>
          <a:prstGeom prst="rect">
            <a:avLst/>
          </a:prstGeom>
          <a:solidFill>
            <a:srgbClr val="be3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tura MT Script Capitals"/>
              </a:rPr>
              <a:t>Tabula and Writing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lucernae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7864560" cy="5246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5715000"/>
            <a:ext cx="8686800" cy="825120"/>
          </a:xfrm>
          <a:prstGeom prst="rect">
            <a:avLst/>
          </a:prstGeom>
          <a:solidFill>
            <a:srgbClr val="812b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atura MT Script Capitals"/>
              </a:rPr>
              <a:t>Lucernae, Oil Lam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psa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773600" cy="6292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181480" y="1066680"/>
            <a:ext cx="3733920" cy="37508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Matura MT Script Capitals"/>
              </a:rPr>
              <a:t>Scrolls in Caps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riclinium%20at%20pompeii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7467840" cy="5189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28600" y="5715000"/>
            <a:ext cx="8686800" cy="82512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Triclinium, The Dining Ro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riclinium%20villa%20of%20mysteries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848720" cy="5029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380880"/>
            <a:ext cx="7772400" cy="8251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Triclin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380880"/>
            <a:ext cx="8686800" cy="740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0000"/>
                </a:solidFill>
                <a:latin typeface="Matura MT Script Capitals"/>
              </a:rPr>
              <a:t>Roman Seating Arrangements in the Tricliniu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riclinium%20seating%20model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324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riclinium%20mock%20up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7429680" cy="4835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920" y="5334120"/>
            <a:ext cx="8534160" cy="14346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tura MT Script Capitals"/>
              </a:rPr>
              <a:t>A Mock Banquet with Mensa and Tres Lecti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floorplan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391520" cy="5868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ulina%20model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7961400" cy="4633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3520" y="457200"/>
            <a:ext cx="8076960" cy="1099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atura MT Script Capitals"/>
              </a:rPr>
              <a:t>The Culin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ompeii.vettii.kitchen" descr=""/>
          <p:cNvPicPr/>
          <p:nvPr/>
        </p:nvPicPr>
        <p:blipFill>
          <a:blip r:embed=""/>
          <a:stretch/>
        </p:blipFill>
        <p:spPr>
          <a:xfrm>
            <a:off x="533520" y="228600"/>
            <a:ext cx="8229600" cy="4952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920" y="5257800"/>
            <a:ext cx="853416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50000">
                <a:srgbClr val="ffffff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tura MT Script Capitals"/>
              </a:rPr>
              <a:t>Remains of a Roman Kitchen and Cooking Pott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ragic%20poet%20kitchen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772400" cy="5003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8600" y="563868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View of an Ancient Kitch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glassware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382240" cy="5087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28600" y="57150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99"/>
                </a:solidFill>
                <a:latin typeface="Matura MT Script Capitals"/>
              </a:rPr>
              <a:t>Ancient Glassw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cut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332160" cy="6324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657600" y="1295280"/>
            <a:ext cx="5334120" cy="3751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Matura MT Script Capitals"/>
              </a:rPr>
              <a:t>Roman Cooking Utensils in Bronz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oilets%20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4813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5334120"/>
            <a:ext cx="8610480" cy="131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tura MT Script Capitals"/>
              </a:rPr>
              <a:t>The Latrina </a:t>
            </a:r>
            <a:r>
              <a:rPr b="0" lang="en-US" sz="2800" spc="-1" strike="noStrike">
                <a:solidFill>
                  <a:srgbClr val="000000"/>
                </a:solidFill>
                <a:latin typeface="Matura MT Script Capitals"/>
              </a:rPr>
              <a:t>(Ancient Roman Toilet)</a:t>
            </a:r>
            <a:r>
              <a:rPr b="0" lang="en-US" sz="4000" spc="-1" strike="noStrike">
                <a:solidFill>
                  <a:srgbClr val="000000"/>
                </a:solidFill>
                <a:latin typeface="Matura MT Script Capitals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Fun on a cold morn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8580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2120" y="4572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oilet%20balneum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153280" cy="4821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8600" y="5410080"/>
            <a:ext cx="8686800" cy="825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 </a:t>
            </a: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Latrina Closeup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eristylium%20w%20plants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305920" cy="5589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60199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Matura MT Script Capitals"/>
              </a:rPr>
              <a:t>Peristylium with Birdbath and Hor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8580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plit dir="in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eristylium%20other%20view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eristylium%20w%20fish%20pond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5570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880" y="5867280"/>
            <a:ext cx="876312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Matura MT Script Capitals"/>
              </a:rPr>
              <a:t>Peristylium with Piscina (Fish Pon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8088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oreius%20tiburtinus%20entrance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4191120" cy="6286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89680" y="127080"/>
            <a:ext cx="3673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685800"/>
            <a:ext cx="3581280" cy="52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e86a2"/>
                </a:solidFill>
                <a:latin typeface="Matura MT Script Capitals"/>
              </a:rPr>
              <a:t>Ianu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badb5"/>
                </a:solidFill>
                <a:latin typeface="Matura MT Script Capitals"/>
              </a:rPr>
              <a:t>Entrance to the house of Loreius Tiburtinus   in Pompe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eristylium%201%20half%20wall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344080" cy="4786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5440320"/>
            <a:ext cx="8534160" cy="11912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Matura MT Script Capitals"/>
              </a:rPr>
              <a:t>Walled Peristyliu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0043"/>
            </a:gs>
            <a:gs pos="50000">
              <a:srgbClr val="b0ae5c"/>
            </a:gs>
            <a:gs pos="100000">
              <a:srgbClr val="86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fontana%20piccola%20fountain%201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899480" cy="5298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791320"/>
            <a:ext cx="8686800" cy="100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ff99"/>
                </a:solidFill>
                <a:latin typeface="Matura MT Script Capitals"/>
              </a:rPr>
              <a:t>Outdoor Founta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75"/>
            </a:gs>
            <a:gs pos="100000">
              <a:srgbClr val="739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fontana%20piccola%20fountain%202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243320" cy="5943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952880" y="457200"/>
            <a:ext cx="3733920" cy="2531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tura MT Script Capitals"/>
              </a:rPr>
              <a:t>Frontal View of the Fountain and Statue.</a:t>
            </a:r>
            <a:r>
              <a:rPr b="0" lang="en-US" sz="4000" spc="-1" strike="noStrike">
                <a:solidFill>
                  <a:srgbClr val="ffcc99"/>
                </a:solidFill>
                <a:latin typeface="Matura MT Script Capitals"/>
              </a:rPr>
              <a:t> </a:t>
            </a:r>
            <a:r>
              <a:rPr b="0" lang="en-US" sz="3600" spc="-1" strike="noStrike">
                <a:solidFill>
                  <a:srgbClr val="ffcc99"/>
                </a:solidFill>
                <a:latin typeface="Matura MT Script Capital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3733920"/>
            <a:ext cx="3733920" cy="1922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tura MT Script Capitals"/>
              </a:rPr>
              <a:t>Note the Intricate Mosaic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001c"/>
            </a:gs>
            <a:gs pos="50000">
              <a:srgbClr val="a87e8c"/>
            </a:gs>
            <a:gs pos="100000">
              <a:srgbClr val="5400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utdoor%20dining%20area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5461200" cy="5715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943600" y="1523880"/>
            <a:ext cx="2819520" cy="2287440"/>
          </a:xfrm>
          <a:prstGeom prst="rect">
            <a:avLst/>
          </a:prstGeom>
          <a:solidFill>
            <a:srgbClr val="4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4a4a4"/>
                </a:solidFill>
                <a:latin typeface="Matura MT Script Capitals"/>
              </a:rPr>
              <a:t>Outdoor Dining Ar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outdoor%20lararium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6351480" cy="5410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8600" y="990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8288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266688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01000" y="8380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53280" y="17524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77320" y="251460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77320" y="3276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57913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57913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5791320"/>
            <a:ext cx="38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57913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5791320"/>
            <a:ext cx="30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57913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579132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81680" y="579132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brick%20domus%20at%20ostia%20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926480" cy="5116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04920" y="5791320"/>
            <a:ext cx="861048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Matura MT Script Capitals"/>
              </a:rPr>
              <a:t>Homes in Ostia, Rome’s Seaport T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brick%20domus%20at%20osti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faun%20house%20peristyle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458200" cy="55850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insula%20of%20julia%20felix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534520" cy="5570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Roman%20insula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7467480" cy="4846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57200" y="5486400"/>
            <a:ext cx="8229600" cy="76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atura MT Script Capitals"/>
              </a:rPr>
              <a:t>A Roman Insula (Apartment</a:t>
            </a:r>
            <a:r>
              <a:rPr b="0" lang="en-US" sz="4400" spc="-1" strike="noStrike">
                <a:solidFill>
                  <a:srgbClr val="ffcc99"/>
                </a:solidFill>
                <a:latin typeface="Matura MT Script Capital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vestibulum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410440" cy="6477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867280" y="3048120"/>
            <a:ext cx="2743200" cy="2898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ageway leading from main entrance to the atr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85800"/>
            <a:ext cx="3124080" cy="1434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ted Vestibul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insula" descr="Picture of an insulae"/>
          <p:cNvPicPr/>
          <p:nvPr/>
        </p:nvPicPr>
        <p:blipFill>
          <a:blip r:embed=""/>
          <a:stretch/>
        </p:blipFill>
        <p:spPr>
          <a:xfrm>
            <a:off x="228600" y="533520"/>
            <a:ext cx="8632800" cy="3328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57200" y="4343400"/>
            <a:ext cx="8001000" cy="1099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66"/>
                </a:solidFill>
                <a:latin typeface="Matura MT Script Capitals"/>
              </a:rPr>
              <a:t>Model of an Insul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ompeii.vettii.atrium" descr=""/>
          <p:cNvPicPr/>
          <p:nvPr/>
        </p:nvPicPr>
        <p:blipFill>
          <a:blip r:embed=""/>
          <a:stretch/>
        </p:blipFill>
        <p:spPr>
          <a:xfrm>
            <a:off x="4343400" y="380880"/>
            <a:ext cx="4267080" cy="6096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3049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atura MT Script Capitals"/>
              </a:rPr>
              <a:t>Atrium from The House of the Vetii at Pompe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house%20of%20the%20faun%20atrium" descr=""/>
          <p:cNvPicPr/>
          <p:nvPr/>
        </p:nvPicPr>
        <p:blipFill>
          <a:blip r:embed="rId2"/>
          <a:stretch/>
        </p:blipFill>
        <p:spPr>
          <a:xfrm>
            <a:off x="990720" y="380880"/>
            <a:ext cx="7238880" cy="4305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5029200"/>
            <a:ext cx="8229600" cy="155628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Atrium from                           The House of the Fau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pluvium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543800" cy="4572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" y="5257800"/>
            <a:ext cx="8686800" cy="8251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Close-up of the Impluv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trium%20house%20of%20amorini%20dorati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238880" cy="471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920" y="3808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atura MT Script Capitals"/>
              </a:rPr>
              <a:t>Atria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02:14:46Z</dcterms:created>
  <dc:creator>Kim Ashcraft</dc:creator>
  <dc:description/>
  <dc:language>en-US</dc:language>
  <cp:lastModifiedBy>Kim Ashcraft</cp:lastModifiedBy>
  <dcterms:modified xsi:type="dcterms:W3CDTF">2004-02-28T19:26:29Z</dcterms:modified>
  <cp:revision>16</cp:revision>
  <dc:subject/>
  <dc:title>PowerPoint Presentation</dc:title>
</cp:coreProperties>
</file>